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5335588" cy="3998913"/>
  <p:notesSz cx="674687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D141-2E93-460D-AFDC-6DED42E20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9960" y="1155600"/>
            <a:ext cx="4533840" cy="114480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9960" y="2409480"/>
            <a:ext cx="4533840" cy="114480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C7F2-73CC-4742-86A2-F7BF85ED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9960" y="1155600"/>
            <a:ext cx="2212200" cy="114480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23040" y="1155600"/>
            <a:ext cx="2212200" cy="114480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9960" y="2409480"/>
            <a:ext cx="2212200" cy="114480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23040" y="2409480"/>
            <a:ext cx="2212200" cy="114480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79EA-6780-4E92-8FF6-38AF5D954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9960" y="1155600"/>
            <a:ext cx="1459800" cy="114480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33200" y="1155600"/>
            <a:ext cx="1459800" cy="114480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466440" y="1155600"/>
            <a:ext cx="1459800" cy="114480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9960" y="2409480"/>
            <a:ext cx="1459800" cy="114480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33200" y="2409480"/>
            <a:ext cx="1459800" cy="114480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466440" y="2409480"/>
            <a:ext cx="1459800" cy="114480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9D9B-C236-4A30-9A0A-2FB6BC7C6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9960" y="1155600"/>
            <a:ext cx="4533840" cy="24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3D9F-C44C-4D36-B9BC-243166FE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9960" y="1155600"/>
            <a:ext cx="4533840" cy="24004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8E2E-8EE1-4F5D-A8FE-58DF08A6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9960" y="1155600"/>
            <a:ext cx="2212200" cy="24004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23040" y="1155600"/>
            <a:ext cx="2212200" cy="24004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05D1-F674-42D3-A2FB-7A8659E8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4803-A459-41AD-BD4B-9CDB11F38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9960" y="355680"/>
            <a:ext cx="453384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5569-E587-4C4A-A3F8-829B9A93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9960" y="1155600"/>
            <a:ext cx="2212200" cy="114480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23040" y="1155600"/>
            <a:ext cx="2212200" cy="24004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9960" y="2409480"/>
            <a:ext cx="2212200" cy="114480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79F2-43F5-4490-933C-F95D06A6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9960" y="1155600"/>
            <a:ext cx="2212200" cy="24004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23040" y="1155600"/>
            <a:ext cx="2212200" cy="114480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3040" y="2409480"/>
            <a:ext cx="2212200" cy="114480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1D35-9CA6-427C-BE0C-804EC98D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9960" y="1155600"/>
            <a:ext cx="2212200" cy="114480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23040" y="1155600"/>
            <a:ext cx="2212200" cy="114480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9960" y="2409480"/>
            <a:ext cx="4533840" cy="114480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FCCF-F7A9-4AE7-AE2D-E2520D3A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9960" y="1155600"/>
            <a:ext cx="4533840" cy="24004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marL="144360" indent="-144360">
              <a:spcBef>
                <a:spcPts val="326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spcBef>
                <a:spcPts val="326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lvl="2" marL="480960" indent="-96840">
              <a:spcBef>
                <a:spcPts val="326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lvl="3" marL="673200" indent="-96840">
              <a:spcBef>
                <a:spcPts val="326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lvl="4" marL="865080" indent="-96840">
              <a:spcBef>
                <a:spcPts val="326"/>
              </a:spcBef>
              <a:buClr>
                <a:srgbClr val="000000"/>
              </a:buClr>
              <a:buFont typeface="굴림"/>
              <a:buChar char="»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lvl="5" marL="865080" indent="-96840">
              <a:spcBef>
                <a:spcPts val="326"/>
              </a:spcBef>
              <a:buClr>
                <a:srgbClr val="000000"/>
              </a:buClr>
              <a:buFont typeface="굴림"/>
              <a:buChar char="»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lvl="6" marL="865080" indent="-96840">
              <a:spcBef>
                <a:spcPts val="326"/>
              </a:spcBef>
              <a:buClr>
                <a:srgbClr val="000000"/>
              </a:buClr>
              <a:buFont typeface="굴림"/>
              <a:buChar char="»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9600" y="3644640"/>
            <a:ext cx="1111320" cy="26676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Autofit/>
          </a:bodyPr>
          <a:lstStyle>
            <a:lvl1pPr indent="0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  <a:defRPr b="0" lang="en-US" sz="6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22320" y="3644640"/>
            <a:ext cx="1689120" cy="26676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Autofit/>
          </a:bodyPr>
          <a:lstStyle>
            <a:lvl1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  <a:defRPr b="0" lang="en-US" sz="6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22840" y="3644640"/>
            <a:ext cx="1110960" cy="26676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Autofit/>
          </a:bodyPr>
          <a:lstStyle>
            <a:lvl1pPr indent="0" algn="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  <a:defRPr b="0" lang="en-US" sz="6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fld id="{6DE33123-AAA2-4AD3-B545-ADD949BE6D9E}" type="slidenum">
              <a:rPr b="0" lang="en-US" sz="6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4600" y="97776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700" spc="-1" strike="noStrike">
                <a:solidFill>
                  <a:srgbClr val="000000"/>
                </a:solidFill>
                <a:latin typeface="굴림"/>
              </a:rPr>
              <a:t>동북아의 새로운 전략환경과</a:t>
            </a:r>
            <a:br>
              <a:rPr sz="1700"/>
            </a:br>
            <a:r>
              <a:rPr b="1" lang="zh-CN" sz="1700" spc="-1" strike="noStrike">
                <a:solidFill>
                  <a:srgbClr val="000000"/>
                </a:solidFill>
                <a:latin typeface="굴림"/>
              </a:rPr>
              <a:t>한국 군비통제의 향방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99920" y="1955880"/>
            <a:ext cx="3733560" cy="102240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회 군비통제 세미나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미국의 대동북아 전략변화와 남북군비통제 전망”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연세대학교 국제학대학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이 정 민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2001</a:t>
            </a: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월 </a:t>
            </a: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일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666720" y="844560"/>
            <a:ext cx="4089600" cy="102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 flipH="1" rot="10800000">
            <a:off x="3897720" y="1219320"/>
            <a:ext cx="825480" cy="1644480"/>
          </a:xfrm>
          <a:prstGeom prst="downArrow">
            <a:avLst>
              <a:gd name="adj1" fmla="val 50000"/>
              <a:gd name="adj2" fmla="val 4980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차 핵 시대 대두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4038480" cy="24004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marL="144360" indent="-14436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차 핵 시대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13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미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·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소 핵 균형 유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세계 핵 무기 확산 차단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예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11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미국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유럽 중심 전략 구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144360" indent="0">
              <a:spcBef>
                <a:spcPts val="224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차 핵 시대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12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중국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이스라엘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인도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파키스탄 핵 무기 보유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11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가상적 핵 무기 보유국 증가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북한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11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대량살상무기 확산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생화학 무기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11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비대칭적 무기 확산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순항 미사일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11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힘의 투사능력 배양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11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서방 진영 국가들의 군사적 입지 약화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3213000" y="1219320"/>
            <a:ext cx="825480" cy="1644480"/>
          </a:xfrm>
          <a:prstGeom prst="downArrow">
            <a:avLst>
              <a:gd name="adj1" fmla="val 50000"/>
              <a:gd name="adj2" fmla="val 4980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382200" y="1295280"/>
            <a:ext cx="351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비대칭무기확산 통제 약화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4189320" y="1355400"/>
            <a:ext cx="214560" cy="14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역외군사력 투입 증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주요 미사일 위협</a:t>
            </a: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: 2015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066680"/>
            <a:ext cx="4019400" cy="24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440" bIns="19440" anchor="t">
            <a:noAutofit/>
          </a:bodyPr>
          <a:p>
            <a:pPr marL="144360" indent="-144360">
              <a:lnSpc>
                <a:spcPct val="150000"/>
              </a:lnSpc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미국 국가정보위원회 탄도 미사일 위협전망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999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년 보고서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국방성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000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년 보고서 등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lnSpc>
                <a:spcPct val="150000"/>
              </a:lnSpc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핵심 탄도 미사일 위협 국가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15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북   한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: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대포동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호 대륙간 탄도미사일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, (ICBM)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적극 개발 가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14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이   란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: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러시아 기술을 기반으로 늦어도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2015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년까지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ICBM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개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14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이라크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: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북한 기술지원으로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2010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년까지 장거리 탄도 미사일 개발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·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실험 가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15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러시아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: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경제적 여건이 허락하는 한 상당 규모의 핵 미사일유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14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중   국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: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 2015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년까지 이동 대륙간 탄도 미사일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20-30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기 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(1999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8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월에 최초 실험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Times New Roman"/>
              </a:rPr>
              <a:t>중장거리 미사일 위협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: 1985-2000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977760" y="826920"/>
          <a:ext cx="3422880" cy="25671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7760" y="826920"/>
                    <a:ext cx="342288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Times New Roman"/>
              </a:rPr>
              <a:t>중장거리 미사일 위협추이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976320" y="811080"/>
          <a:ext cx="3425760" cy="25671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6320" y="811080"/>
                    <a:ext cx="342576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굴림"/>
              </a:rPr>
              <a:t>P-5</a:t>
            </a:r>
            <a:r>
              <a:rPr b="0" lang="zh-CN" sz="1300" spc="-1" strike="noStrike">
                <a:solidFill>
                  <a:srgbClr val="000000"/>
                </a:solidFill>
                <a:latin typeface="굴림"/>
              </a:rPr>
              <a:t>외 탄도 미사일 보유국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100km </a:t>
            </a:r>
            <a:r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이상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) 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844560" y="844560"/>
          <a:ext cx="3733920" cy="2800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" y="844560"/>
                    <a:ext cx="3733920" cy="28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2529720" y="3062160"/>
            <a:ext cx="515880" cy="444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굴림"/>
              </a:rPr>
              <a:t>32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굴림"/>
              </a:rPr>
              <a:t>P-5</a:t>
            </a:r>
            <a:r>
              <a:rPr b="0" lang="zh-CN" sz="1300" spc="-1" strike="noStrike">
                <a:solidFill>
                  <a:srgbClr val="000000"/>
                </a:solidFill>
                <a:latin typeface="굴림"/>
              </a:rPr>
              <a:t>외 탄도 미사일 보유국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300km </a:t>
            </a:r>
            <a:r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이상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934920" y="888840"/>
          <a:ext cx="3378240" cy="2533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4920" y="888840"/>
                    <a:ext cx="3378240" cy="25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2453400" y="2895480"/>
            <a:ext cx="515880" cy="444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굴림"/>
              </a:rPr>
              <a:t>11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굴림"/>
              </a:rPr>
              <a:t>P-5</a:t>
            </a:r>
            <a:r>
              <a:rPr b="0" lang="zh-CN" sz="1300" spc="-1" strike="noStrike">
                <a:solidFill>
                  <a:srgbClr val="000000"/>
                </a:solidFill>
                <a:latin typeface="굴림"/>
              </a:rPr>
              <a:t>외 미사일 보유국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1000km </a:t>
            </a:r>
            <a:r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이상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844560" y="933480"/>
          <a:ext cx="3556080" cy="26668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" y="933480"/>
                    <a:ext cx="355608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440800" y="3062160"/>
            <a:ext cx="515880" cy="444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굴림"/>
              </a:rPr>
              <a:t>05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85440" y="711000"/>
            <a:ext cx="3962520" cy="275580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굴림"/>
              </a:rPr>
              <a:t>•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중국 미사일 현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–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CSS-7: 300 k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–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CSS-6: 600 k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–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CSS-5: 1,800 k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–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CSS-2: 2,800 km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–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CSS-3: 5,500 km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이상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–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CSS-4: 13,000 k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–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DF-31: 8,000 km (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개발가능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3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•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2001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년 현재 약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100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개의 핵탄두 보유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전략적 목적은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2015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년 까지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미 본토 공격 능력 확보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현재는 제한적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ICBM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보유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•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전략 핵잠수함 프로그램 적극추진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, JL-2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해상 발사용 장거리 미사일 개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•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대만 독립상황 발생시 즉각적인 군사작전 돌입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대대적인 미사일 공격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능력을 위해 차세대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SRBM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개발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·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현대화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•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2015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년까지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GDP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의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5-5.5%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국방예산 유지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(2001-2004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평균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440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억 달러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- 700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억 달러 예상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133200" y="3600360"/>
            <a:ext cx="11113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no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1511280" y="3600360"/>
            <a:ext cx="2089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3956040" y="3600360"/>
            <a:ext cx="11113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noAutofit/>
          </a:bodyPr>
          <a:p>
            <a:pPr algn="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266760" y="222120"/>
            <a:ext cx="4800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중국 미사일 능력 현황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440" y="755280"/>
            <a:ext cx="3892680" cy="275580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Autofit/>
          </a:bodyPr>
          <a:p>
            <a:pPr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굴림"/>
              </a:rPr>
              <a:t>•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북한 미사일 현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SCUD-B  : 300 k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    –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SCUD-C  : 600 k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    –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노동      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: 1,300 k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    –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대포동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호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: 2,000 k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    –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대포동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호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: 5,000-6,000 km (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개발 가능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•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1999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월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미북 협상 기간중 장거리 미사일 실험발사 중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•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1970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년대 부터 적극적인 탄도 미사일 프로그램 착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•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1994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년 제네바 핵 합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    –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북한의 핵 탄두 개발 가능성 배제할 수 없음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•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생화학 탄두 보유 추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•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노동 미사일은 남한 전역과 일본의 일부지역을 겨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•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미국과 일본을 상대로 대포동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호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호 개발 추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•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현재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장거리 미사일 실험발사 중단 유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266760" y="222120"/>
            <a:ext cx="4800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북한의 미사일 현황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2120" y="3600360"/>
            <a:ext cx="11113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no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1644480" y="3600360"/>
            <a:ext cx="18669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4000680" y="3600360"/>
            <a:ext cx="11109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noAutofit/>
          </a:bodyPr>
          <a:p>
            <a:pPr algn="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747960" y="2502000"/>
            <a:ext cx="530280" cy="403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대남 위협전략과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유사시 미국의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군사지원 차단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유럽 군비통제</a:t>
            </a: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: MBFR </a:t>
            </a: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회담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4114800" cy="24004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marL="144360" indent="-14436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상호 및 균형적 전력 감축 협상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배경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(Mutual and Balanced Force Reduction Talks, MBFR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1973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10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월 미국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소련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나토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및 바르샤바 조약 기구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(Warsaw Treaty Organization, WTO)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간의 군비통제 회담 재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12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기본목적은 상호간의 재래식 전력 감축 및 안정적 군사 균형 구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11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1973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월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, WTO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측 제안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2" marL="480960" indent="-96840"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각각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20,000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병력과 관련 장비 감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2" marL="480960" indent="-96840"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이후 각각 회원국의 병력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장비를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15%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삭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12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1973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월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나토측 제안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2" marL="480960" indent="-96840"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NATO: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미군 병력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29,000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명 철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2" marL="480960" indent="-96840"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WTO: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소련의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개 탱크 군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(Tank Army)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철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2" marL="48096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(5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개 사단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탱크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1,700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병력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68,000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2" marL="480960" indent="-96840"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상호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700,000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지상군 상한선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(ceiling)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유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2" marL="480960" indent="-96840">
              <a:lnSpc>
                <a:spcPct val="11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상호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900,000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지상군 및 공군 상한선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(ceiling)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유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발표 순서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9960" y="1155600"/>
            <a:ext cx="4533840" cy="24004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marL="144360" indent="-14436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복합전의 대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동북아의 전략적 추이와 새로운 안보 위협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차 핵 시대와 지역안보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유럽 군비통제의 교훈과 한반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남북한 군비통제 유형과 추진 모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남북한 군비통제 전략 비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북한의 향방과 위기관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44360" indent="0">
              <a:spcBef>
                <a:spcPts val="249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44360" indent="0">
              <a:spcBef>
                <a:spcPts val="249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"/>
              </a:rPr>
              <a:t>고르바초프의 재래감축 제안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022040"/>
            <a:ext cx="4114800" cy="24001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marL="79200" indent="-7920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1980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년대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1984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월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, NATO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WTO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측이 서방 검증 조건을 수용할 경우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WTO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에  전력 데이터에 대한  합의를 보류할 수 있다고 제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1985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월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, MBFR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협상에 진전이 없자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, NATO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가 새로운 대안 제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2" marL="439560" indent="-117360">
              <a:spcBef>
                <a:spcPts val="224"/>
              </a:spcBef>
              <a:buClr>
                <a:srgbClr val="000000"/>
              </a:buClr>
              <a:buFont typeface="굴림"/>
              <a:buAutoNum type="arabicParenR"/>
              <a:tabLst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감군 지역에 해당하는 정확한 상한선에 대한 합의 연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2" marL="439560" indent="-117360">
              <a:spcBef>
                <a:spcPts val="224"/>
              </a:spcBef>
              <a:buClr>
                <a:srgbClr val="000000"/>
              </a:buClr>
              <a:buFont typeface="굴림"/>
              <a:buAutoNum type="arabicParenR"/>
              <a:tabLst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단계 감축에서 미 지상군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5,000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명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소련 지상군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11,500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명 감군 제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2" marL="439560" indent="-117360">
              <a:spcBef>
                <a:spcPts val="224"/>
              </a:spcBef>
              <a:buClr>
                <a:srgbClr val="000000"/>
              </a:buClr>
              <a:buFont typeface="굴림"/>
              <a:buAutoNum type="arabicParenR"/>
              <a:tabLst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구체적인 군사 데이터 교환을 포함한 매년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회의 현장 검증을 포함한 포괄적인 검증체제 구축 제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1986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4-6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월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미하일 고르바초프 소련 공산당 서기장 포괄적 감축 제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2" marL="439560" indent="-117360">
              <a:spcBef>
                <a:spcPts val="224"/>
              </a:spcBef>
              <a:buClr>
                <a:srgbClr val="000000"/>
              </a:buClr>
              <a:buFont typeface="굴림"/>
              <a:buAutoNum type="arabicParenR"/>
              <a:tabLst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유럽의 지상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공군과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NATO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에 배치된 미국과 카나다 병력 감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2" marL="439560" indent="-117360">
              <a:spcBef>
                <a:spcPts val="224"/>
              </a:spcBef>
              <a:buClr>
                <a:srgbClr val="000000"/>
              </a:buClr>
              <a:buFont typeface="굴림"/>
              <a:buAutoNum type="arabicParenR"/>
              <a:tabLst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NTM,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국제적 검증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필요시 현장사찰 포함한 “효과적 검증 방안” 수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2" marL="439560" indent="-117360">
              <a:spcBef>
                <a:spcPts val="224"/>
              </a:spcBef>
              <a:buClr>
                <a:srgbClr val="000000"/>
              </a:buClr>
              <a:buFont typeface="굴림"/>
              <a:buAutoNum type="arabicParenR"/>
              <a:tabLst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WTO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가 고르바초프 제안을 기반으로 향후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1-2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년내에 각각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110,000-150,000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명의 재래식 전력 감축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. 1990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년대 초에 각각 총 병력의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25%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감축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약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500,000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명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0">
              <a:spcBef>
                <a:spcPts val="224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CDE</a:t>
            </a: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회담 발족 배경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60240" y="1022040"/>
            <a:ext cx="3988080" cy="24001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marL="79200" indent="-79200"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1984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월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유럽 신뢰 및 안보구축과 무력감축 회의 개최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(Conference on Confidence and Security-Building Measures and Disarmament in Europe, CDE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79200" indent="0">
              <a:lnSpc>
                <a:spcPct val="20000"/>
              </a:lnSpc>
              <a:spcBef>
                <a:spcPts val="224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79200" indent="-79200">
              <a:lnSpc>
                <a:spcPct val="11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1986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월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, CDE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회원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35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개국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유럽에서 전쟁 발발 가능성을 최소화 하기위한 협약 채택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스톡홀름 문서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, Stockholm Documen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lnSpc>
                <a:spcPct val="120000"/>
              </a:lnSpc>
              <a:spcBef>
                <a:spcPts val="201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NATO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WTO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가 각각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대서양에서 우랄산맥 지역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&gt; (Atlantic to the Urals, ATTU)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에서 발생하는 주요 군사활동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최소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13,000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명 혹은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300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대 탱크가 참여하는 군사활동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을 사전에 통보하고 필요할 경우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년전에 사전 통보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lnSpc>
                <a:spcPct val="120000"/>
              </a:lnSpc>
              <a:spcBef>
                <a:spcPts val="201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17,000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명 이상 참여하는 군사활동에는 모든 회원국들의 참관자를 반드시 초청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lnSpc>
                <a:spcPct val="120000"/>
              </a:lnSpc>
              <a:spcBef>
                <a:spcPts val="201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이와 함께 지상 및 공군기지 및 시설의 강제 현장사찰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(challenge on-site inspection)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을    수용해야만 하는 필수 조건에 합의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79200" indent="-79200">
              <a:lnSpc>
                <a:spcPct val="13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1986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월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, NATO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외무장관 회담에서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MBFR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을 새로운 방식으로 전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79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하자고 제시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(MBFR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CFE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로 변경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유럽 재래 전력 협상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소련의 감군정책과 </a:t>
            </a: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CFE</a:t>
            </a: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회담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04880" y="1022040"/>
            <a:ext cx="3943440" cy="24001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marL="79200" indent="-792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NATO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의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CDE/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쌍무적 회담 제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77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*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1987.7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월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, NATO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가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개의 새로운 협상안 제시 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1" marL="277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(1) CSCE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의 모든 회원국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(35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개국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이 참여하는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CDE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회담 존속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1" marL="277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재래식 전력을 감축하고 유럽에서 안정적 군사균형을 구축하기 위한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NATO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와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WTO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회원국만 참여하는 회담 제안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79200" indent="-79200">
              <a:lnSpc>
                <a:spcPct val="13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소련의 일방적 재래식 전력 감축 제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77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(1) 1987.12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월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고르바초프 서기장이 유엔에서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향후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년 내 소련 병력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500,000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명 감축 천명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1" marL="277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화력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8,500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문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전투기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800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기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그리고 탱크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10,000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대를 동독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헝가리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체코스로바키아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그리고 소련 서부 지역에서 감축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1" marL="277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동유럽에서 소련군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50,000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명 철수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79200" indent="-79200">
              <a:lnSpc>
                <a:spcPct val="13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NATO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WTO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의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CFE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회담 합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77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*  1989.1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월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, NATO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WTO 23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개국 공식적으로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CFE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회담 추진 합의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1" marL="277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재래전력의 감축으로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ATTU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전역에 안정적 군사균형 유지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1" marL="277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안전과 안보에 위배되는 요소 예방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1" marL="277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기습전과 대규모 공격용 군사 행위 능력 저하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1" marL="277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(4)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효과적이고 철저한 검증체제를 확립하고 현장사찰의 의무화 합의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1" marL="277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CFE </a:t>
            </a: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조약 주안점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04880" y="1022040"/>
            <a:ext cx="3943440" cy="24001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marL="79200" indent="-7920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CFE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조약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: 1990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월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19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일 체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0">
              <a:lnSpc>
                <a:spcPts val="0"/>
              </a:lnSpc>
              <a:spcBef>
                <a:spcPts val="249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0"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NATO / WTO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사이의 균형적 군사관계 성립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동등한 재래식 전력 균형 원칙에 합의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, 5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개 분야의 재래식 무기 상한선 규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2" marL="442800" indent="-83880"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굴림"/>
              <a:buChar char="•"/>
              <a:tabLst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20,000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탱크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(3,500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대는 비축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),  30,000 ACV (2,7000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대는 비축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2" marL="442800" indent="-83880">
              <a:spcBef>
                <a:spcPts val="201"/>
              </a:spcBef>
              <a:buClr>
                <a:srgbClr val="000000"/>
              </a:buClr>
              <a:buFont typeface="굴림"/>
              <a:buChar char="•"/>
              <a:tabLst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20,000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화력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(3,000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기는 비축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),  2,000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공격헬기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,  6,800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전투기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2" marL="442800" indent="0">
              <a:lnSpc>
                <a:spcPts val="0"/>
              </a:lnSpc>
              <a:spcBef>
                <a:spcPts val="201"/>
              </a:spcBef>
              <a:buNone/>
              <a:tabLst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NATO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WTO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전역에 해당되는 조약 규제 장비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(Treaty Limited Equipment, TLE)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를 중심으로 소련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/WTO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의 기습공격 가능성을 원천적으로 희석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2" marL="442800" indent="-83880">
              <a:spcBef>
                <a:spcPts val="201"/>
              </a:spcBef>
              <a:buClr>
                <a:srgbClr val="000000"/>
              </a:buClr>
              <a:buFont typeface="굴림"/>
              <a:buChar char="•"/>
              <a:tabLst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Group Limit (NATO/WTO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전역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2" marL="442800" indent="-83880">
              <a:spcBef>
                <a:spcPts val="201"/>
              </a:spcBef>
              <a:buClr>
                <a:srgbClr val="000000"/>
              </a:buClr>
              <a:buFont typeface="굴림"/>
              <a:buChar char="•"/>
              <a:tabLst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중부 유럽내의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Zonal Sub-limit (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회원국에 해당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): Germany, Benelux, Poland, Hungary, Czechoslovakia (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분리 이후 체코 및 슬로바키아 공화국으로 정의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2" marL="442800" indent="-83880">
              <a:spcBef>
                <a:spcPts val="201"/>
              </a:spcBef>
              <a:buClr>
                <a:srgbClr val="000000"/>
              </a:buClr>
              <a:buFont typeface="굴림"/>
              <a:buChar char="•"/>
              <a:tabLst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소련 붕괴 이후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CIS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의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개 국가로 규정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2" marL="442800" indent="0">
              <a:lnSpc>
                <a:spcPct val="10000"/>
              </a:lnSpc>
              <a:spcBef>
                <a:spcPts val="201"/>
              </a:spcBef>
              <a:buNone/>
              <a:tabLst>
                <a:tab algn="l" pos="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TLE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감축은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단계로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개월 내에 추진하며 방법은 폐기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재분류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그리고 재분리 등으로 규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0">
              <a:spcBef>
                <a:spcPts val="224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79200" indent="0"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CFE </a:t>
            </a: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조약 부속협정 </a:t>
            </a: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(CFE-1A)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4172040" cy="24001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marL="144360" indent="-14436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1990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월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, CFE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병력 규제 협상 개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1991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년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월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, CFE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조약 체결 전 소련이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TLE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관련장비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53,700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4436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                    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우랄 산맥 동쪽으로 이동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1991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년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월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, WTO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군사체계 폐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1991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월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미 상원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CFE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조약 비준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1992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년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월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, Open Skies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조약 체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1992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년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월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러시아 최고인민회의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CFE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조약 비준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1992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년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월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CFE-1A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협정 체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유럽재래전력 병력협상에 관한 최종 협약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&gt; (Concluding Act of the Negotiation on Personnel Strength of Conventional Armed Forces in Europe, CFE-1A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해군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치안군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그리고 유엔작전에 참여하는 병력을 제외한 일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0"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병력에 대한 상한선 설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CFE</a:t>
            </a: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조약 이행 과정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04880" y="1155600"/>
            <a:ext cx="3943440" cy="24004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marL="144360" indent="-144360"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1999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월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탈냉전적 환경을 감안한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CFE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이해 회담 개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144360" indent="0"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구속력은 없으나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Review Meeting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에서 채택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CFE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조약의 체결 당시 주 목적은 상호간의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TLE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중심 균형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(parity)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유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냉전 종식이후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Group Limit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National Limit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으로 전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1990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CFE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조약 체결 이후 현재 회원국들이 약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51,000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개의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TLE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관련  장비 폐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대다수 회원국들은 냉전 종식이후 자국 군대를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CFE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조약 상한선 이하로 감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NATO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확대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(1999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년 폴란드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헝가리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체코 등 가입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러시아와의 협력을 강화하기 위해 ‘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Partners for Peace’ (PfP)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추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유로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대서양 파트너십 위원회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(Euro-Atlantic Partnership Council, EACP)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발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CFE</a:t>
            </a: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와 유럽안보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5600" y="1066680"/>
            <a:ext cx="2127240" cy="24004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marL="79200" indent="-79200">
              <a:spcBef>
                <a:spcPts val="275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굴림"/>
              </a:rPr>
              <a:t>CFE</a:t>
            </a:r>
            <a:r>
              <a:rPr b="1" lang="ko-KR" sz="1100" spc="-1" strike="noStrike">
                <a:solidFill>
                  <a:srgbClr val="000000"/>
                </a:solidFill>
                <a:latin typeface="굴림"/>
              </a:rPr>
              <a:t>의 효력과 개선 방안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lnSpc>
                <a:spcPct val="11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균형적 군사관계 구축과 기습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전쟁 방지에 핵심적인 기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lnSpc>
                <a:spcPct val="11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그러나 국가간의 정치 • 군사적    마찰과 국내 분쟁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코소보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체치니아 등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을 해소하는 데에는 한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lnSpc>
                <a:spcPct val="11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NATO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확대를 보다 적극적으로 추진할 수 있으나  러시아 반발 가속화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lnSpc>
                <a:spcPct val="11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TLE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관련 장비 감축 확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lnSpc>
                <a:spcPct val="11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CFE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조약을 기초로 보다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intrusive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한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sub-treaty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협상 추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lnSpc>
                <a:spcPct val="11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NATO, WEU, OSCE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의 활성화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2622600" y="1066680"/>
            <a:ext cx="2178000" cy="24004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marL="79200" indent="-7920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향후 유럽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CSBM </a:t>
            </a: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방안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0">
              <a:lnSpc>
                <a:spcPct val="20000"/>
              </a:lnSpc>
              <a:spcBef>
                <a:spcPts val="249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주요 위기 발생시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NATO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의 역할을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OSCE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지역으로 확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2" marL="361800" indent="-396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보스니아의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SFOR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2" marL="361800" indent="-39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NATO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회원국의 독립적 대응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이태리의 ‘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Operation Alba’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NATO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내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Crisis Response Team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설립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2" marL="361800" indent="-39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mbined Joint Task Force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2" marL="361800" indent="-396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Allied Command, Europe, Rapid Reaction Corps (ARRC) 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안전 및 안보 방안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Safety and Security Measures, SSM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2" marL="361800" indent="-39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Dayton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협약조항 확대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2" marL="361800" indent="-39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OSCE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역할 강화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2" marL="361800" indent="-39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위기관리 체제 강화 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2" marL="361800" indent="0">
              <a:spcBef>
                <a:spcPts val="201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유럽 군비통제의 교훈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200240"/>
            <a:ext cx="1079640" cy="355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군사동맹 </a:t>
            </a: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(NATO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1467000"/>
            <a:ext cx="1193760" cy="399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신뢰구축 </a:t>
            </a: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(CSCE/OSCE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1778040"/>
            <a:ext cx="1295280" cy="399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유럽안보강화 </a:t>
            </a: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(WEU, CSFP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2089080"/>
            <a:ext cx="1244880" cy="399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군비통제 </a:t>
            </a: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(CFE, CDE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400480" y="1600200"/>
            <a:ext cx="399960" cy="622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년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1219320" y="2400480"/>
            <a:ext cx="1269720" cy="399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미소 군축 </a:t>
            </a: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(INF, START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895480"/>
            <a:ext cx="1981080" cy="5335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냉전 당시 유럽안보 구축 방안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2844720" y="2895480"/>
            <a:ext cx="1803600" cy="533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탈냉전 유럽안보 구축 방안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3022560" y="1244520"/>
            <a:ext cx="1625760" cy="266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3305160" y="1287360"/>
            <a:ext cx="10512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기습전 방지에서 내전 방지</a:t>
            </a: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예방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2895480" y="1752480"/>
            <a:ext cx="1714680" cy="9781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NATO </a:t>
            </a: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확대 및 위기예방 주력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3215520" y="1820880"/>
            <a:ext cx="11314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LIC </a:t>
            </a: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분쟁</a:t>
            </a: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, OOTW </a:t>
            </a: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개입 여부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4756320" y="2000160"/>
            <a:ext cx="1076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4419720" y="1981080"/>
            <a:ext cx="18576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W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한반도 군비통제 주요 의제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04880" y="933120"/>
            <a:ext cx="3943440" cy="24001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marL="144360" indent="-14436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한반도내 기습 전쟁 발발 가능성 최소화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억지 및 예방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안정적 군사균형 구축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저강도 분쟁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(LIC)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및 비재래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(Unconventional Warfare)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전쟁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전투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의 억지 및 예방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비대칭적 군사균형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(Asymmetrical Military Balance)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조정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핵 및 생화학 무기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대량살상무기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, WMD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탄도 미사일 및 순항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(cruise)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미사일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비대칭적 무기체계 확산 방지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(Asymmetrical Weapons Systems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군사정보 및 군사 데이터 교환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남북한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SBM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의 제도화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범 지역적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동북아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) CSBM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의 제도화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주한미군의 중장기적 위상 및 주둔 여부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44360" indent="0">
              <a:spcBef>
                <a:spcPts val="249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44360" indent="0">
              <a:spcBef>
                <a:spcPts val="249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3200400" y="2514600"/>
            <a:ext cx="1447920" cy="501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3511440" y="2711520"/>
            <a:ext cx="14223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2590920"/>
            <a:ext cx="137160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굴림"/>
              </a:rPr>
              <a:t>CSBM</a:t>
            </a:r>
            <a:r>
              <a:rPr b="1" lang="zh-CN" sz="700" spc="-1" strike="noStrike">
                <a:solidFill>
                  <a:srgbClr val="000000"/>
                </a:solidFill>
                <a:latin typeface="굴림"/>
              </a:rPr>
              <a:t>회담 ⇒ 신뢰구축 및 검증방법  확정 ⇒  군비통제 ⇒ 군축 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zh-CN" sz="700" spc="-1" strike="noStrike">
                <a:solidFill>
                  <a:srgbClr val="000000"/>
                </a:solidFill>
                <a:latin typeface="굴림"/>
              </a:rPr>
              <a:t>단계적 군비통제 구축</a:t>
            </a:r>
            <a:r>
              <a:rPr b="1" lang="en-US" sz="7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남북관계와 군비통제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022040"/>
            <a:ext cx="4019760" cy="24001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marL="122400" indent="-12240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한반도에서 기습 전쟁 예방 및 안정적 군사관계 구축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122400" indent="-12240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1992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년 남북기본합의서 및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2000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월 남북공동선언 정신에 입각한 한국형 신뢰 및 안보구축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(Confidence and Security Building Measures, CSBMs)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조치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방안 제도화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활성화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122400" indent="-12240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부시 행정부의 새로운 대북정책 기조와 남북한 재래식 군사 문제 강조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122400" indent="-12240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동북아 군사신뢰구축 및 위기예방에 기여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122400" indent="-12240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동북아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자 국방회담을 포함한 범 지역적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CSBM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회의 정착 기여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122400" indent="0">
              <a:spcBef>
                <a:spcPts val="326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    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marL="122400" indent="0">
              <a:spcBef>
                <a:spcPts val="326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55680" y="1066680"/>
            <a:ext cx="4533840" cy="24004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marL="144360" indent="0">
              <a:lnSpc>
                <a:spcPct val="90000"/>
              </a:lnSpc>
              <a:spcBef>
                <a:spcPts val="437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ko-KR" sz="700" spc="-1" strike="noStrike">
                <a:solidFill>
                  <a:srgbClr val="000000"/>
                </a:solidFill>
                <a:latin typeface="굴림"/>
              </a:rPr>
              <a:t>• </a:t>
            </a:r>
            <a:r>
              <a:rPr b="1" lang="ko-KR" sz="700" spc="-1" strike="noStrike">
                <a:solidFill>
                  <a:srgbClr val="000000"/>
                </a:solidFill>
                <a:latin typeface="굴림"/>
              </a:rPr>
              <a:t>동시다발 위협 </a:t>
            </a:r>
            <a:r>
              <a:rPr b="1" lang="ko-KR" sz="7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700" spc="-1" strike="noStrike">
                <a:solidFill>
                  <a:srgbClr val="000000"/>
                </a:solidFill>
                <a:latin typeface="굴림"/>
              </a:rPr>
              <a:t>복합적 위협</a:t>
            </a:r>
            <a:r>
              <a:rPr b="1" lang="ko-KR" sz="7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1" lang="ko-KR" sz="700" spc="-1" strike="noStrike">
                <a:solidFill>
                  <a:srgbClr val="000000"/>
                </a:solidFill>
                <a:latin typeface="굴림"/>
              </a:rPr>
              <a:t>대두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  <a:p>
            <a:pPr marL="144360" indent="0">
              <a:lnSpc>
                <a:spcPct val="90000"/>
              </a:lnSpc>
              <a:spcBef>
                <a:spcPts val="437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굴림"/>
              </a:rPr>
              <a:t>        – 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국제테러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국제범죄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사이버 전쟁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에너지 확보 분쟁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민족분규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  <a:p>
            <a:pPr marL="144360" indent="0">
              <a:lnSpc>
                <a:spcPct val="90000"/>
              </a:lnSpc>
              <a:spcBef>
                <a:spcPts val="437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   – 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대규모 전쟁보다 소규모 국지전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내전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내란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독립 분리운동 등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  <a:p>
            <a:pPr marL="144360" indent="0">
              <a:lnSpc>
                <a:spcPct val="90000"/>
              </a:lnSpc>
              <a:spcBef>
                <a:spcPts val="437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ko-KR" sz="700" spc="-1" strike="noStrike">
                <a:solidFill>
                  <a:srgbClr val="000000"/>
                </a:solidFill>
                <a:latin typeface="굴림"/>
              </a:rPr>
              <a:t>• </a:t>
            </a:r>
            <a:r>
              <a:rPr b="1" lang="ko-KR" sz="700" spc="-1" strike="noStrike">
                <a:solidFill>
                  <a:srgbClr val="000000"/>
                </a:solidFill>
                <a:latin typeface="굴림"/>
              </a:rPr>
              <a:t>비대칭적 군사기술과 무기체계 확산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  <a:p>
            <a:pPr marL="144360" indent="0">
              <a:lnSpc>
                <a:spcPct val="90000"/>
              </a:lnSpc>
              <a:spcBef>
                <a:spcPts val="437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굴림"/>
              </a:rPr>
              <a:t>        – 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탄도 미사일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생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·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화학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·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핵 탄두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순항 미사일 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(cruise missile)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  <a:p>
            <a:pPr marL="144360" indent="0">
              <a:lnSpc>
                <a:spcPct val="90000"/>
              </a:lnSpc>
              <a:spcBef>
                <a:spcPts val="437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   – 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비교적 저 비용으로 고성능 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파괴력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무기 개발 가능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  <a:p>
            <a:pPr marL="144360" indent="0">
              <a:lnSpc>
                <a:spcPct val="90000"/>
              </a:lnSpc>
              <a:spcBef>
                <a:spcPts val="437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        – 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다양한 목적으로 활용 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외교협상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군사작전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정권수호 등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  <a:p>
            <a:pPr marL="144360" indent="0">
              <a:lnSpc>
                <a:spcPct val="90000"/>
              </a:lnSpc>
              <a:spcBef>
                <a:spcPts val="437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        – 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미흡한 국제적 기술이전 통제 체제 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(MTCR 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등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  <a:p>
            <a:pPr marL="144360" indent="0">
              <a:lnSpc>
                <a:spcPct val="90000"/>
              </a:lnSpc>
              <a:spcBef>
                <a:spcPts val="437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ko-KR" sz="700" spc="-1" strike="noStrike">
                <a:solidFill>
                  <a:srgbClr val="000000"/>
                </a:solidFill>
                <a:latin typeface="굴림"/>
              </a:rPr>
              <a:t>• </a:t>
            </a:r>
            <a:r>
              <a:rPr b="1" lang="ko-KR" sz="700" spc="-1" strike="noStrike">
                <a:solidFill>
                  <a:srgbClr val="000000"/>
                </a:solidFill>
                <a:latin typeface="굴림"/>
              </a:rPr>
              <a:t>비국가 행위자 확산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  <a:p>
            <a:pPr marL="144360" indent="0">
              <a:lnSpc>
                <a:spcPct val="90000"/>
              </a:lnSpc>
              <a:spcBef>
                <a:spcPts val="437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ko-KR" sz="700" spc="-1" strike="noStrike">
                <a:solidFill>
                  <a:srgbClr val="000000"/>
                </a:solidFill>
                <a:latin typeface="굴림"/>
              </a:rPr>
              <a:t>  – 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불특정 테러집단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범 지구적 범죄조직 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마약 카르텔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야쿠자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  <a:p>
            <a:pPr marL="144360" indent="0">
              <a:lnSpc>
                <a:spcPct val="90000"/>
              </a:lnSpc>
              <a:spcBef>
                <a:spcPts val="437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222120" y="444600"/>
            <a:ext cx="48895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향후 안보위협</a:t>
            </a: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: &lt;</a:t>
            </a: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복합적 위협 시대</a:t>
            </a: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1" lang="en-US" sz="13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3200400"/>
            <a:ext cx="1022400" cy="355680"/>
          </a:xfrm>
          <a:custGeom>
            <a:avLst/>
            <a:gdLst>
              <a:gd name="textAreaLeft" fmla="*/ 159480 w 1022400"/>
              <a:gd name="textAreaRight" fmla="*/ 894600 w 1022400"/>
              <a:gd name="textAreaTop" fmla="*/ 88920 h 355680"/>
              <a:gd name="textAreaBottom" fmla="*/ 266760 h 355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2489040" y="3156120"/>
            <a:ext cx="1822680" cy="4442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600" spc="-1" strike="noStrike">
                <a:solidFill>
                  <a:srgbClr val="000000"/>
                </a:solidFill>
                <a:latin typeface="Times New Roman"/>
              </a:rPr>
              <a:t>월 </a:t>
            </a: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600" spc="-1" strike="noStrike">
                <a:solidFill>
                  <a:srgbClr val="000000"/>
                </a:solidFill>
                <a:latin typeface="Times New Roman"/>
              </a:rPr>
              <a:t>일 테러 참사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남북한 군비통제 준비 사항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28560" y="1022400"/>
            <a:ext cx="2038320" cy="115560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marL="79200" indent="-79200"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군비통제 추진 전략 확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79200" indent="-79200"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저강도 신뢰구축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7776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운용적 군비통제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7776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구조적 군비통제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7776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운용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구조 군비통제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(2+3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590560" y="1022400"/>
            <a:ext cx="2222280" cy="115560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marL="79200" indent="-79200"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군비통제 정보 및 데이터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독립적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NTM)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정보획득능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한미공동 정보획득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lnSpc>
                <a:spcPct val="11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미국 전략 및 전술정보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남북 군사 데이터 합의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28560" y="2222640"/>
            <a:ext cx="2114640" cy="115560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marL="79200" indent="-79200"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정책개발 및 집행기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주요 참여 부서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(NSC,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국방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외교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,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통일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국정원 등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및 종합적 정부    기구 확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정책개발 팀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(KIDA, ADD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등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한미정책 협의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외교 및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CFC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590560" y="2178000"/>
            <a:ext cx="2222280" cy="115560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marL="79200" indent="-79200"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인력 및 예산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77760"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전문성 겸비 협상 팀 및 보조인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7776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재정확보 핵심 요소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7776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77760"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2666880" y="2844720"/>
            <a:ext cx="1911600" cy="355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2889360"/>
            <a:ext cx="1785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운영 </a:t>
            </a: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(Operational) </a:t>
            </a: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및 프로그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(Program)</a:t>
            </a: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예산이 필수 조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재래식 군비통제 과정 모형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679320" y="2444760"/>
            <a:ext cx="1378080" cy="9334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2444760"/>
            <a:ext cx="1377720" cy="9334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2743200" y="1143000"/>
            <a:ext cx="1378080" cy="9334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2266920" y="1422360"/>
            <a:ext cx="355680" cy="311040"/>
          </a:xfrm>
          <a:prstGeom prst="rightArrow">
            <a:avLst>
              <a:gd name="adj1" fmla="val 50000"/>
              <a:gd name="adj2" fmla="val 2858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>
            <a:off x="4114800" y="1778040"/>
            <a:ext cx="488880" cy="977760"/>
          </a:xfrm>
          <a:custGeom>
            <a:avLst/>
            <a:gdLst>
              <a:gd name="textAreaLeft" fmla="*/ 65520 w 488880"/>
              <a:gd name="textAreaRight" fmla="*/ 423360 w 488880"/>
              <a:gd name="textAreaTop" fmla="*/ 171000 h 977760"/>
              <a:gd name="textAreaBottom" fmla="*/ 708840 h 9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2311560" y="2755800"/>
            <a:ext cx="355320" cy="3556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679320" y="1143000"/>
            <a:ext cx="1378080" cy="9334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00280" y="1511280"/>
            <a:ext cx="977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1057320" y="1089000"/>
            <a:ext cx="6318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1285920"/>
            <a:ext cx="12128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STEP 1: </a:t>
            </a: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회담 및 의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굴림"/>
              <a:buAutoNum type="arabicPeriod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군사신뢰구축 회담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정례화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장소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횟수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남북한 군비통제 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상설 기구 설립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재협상 추진 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>
            <a:off x="2895480" y="1285920"/>
            <a:ext cx="114300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 marL="192240" indent="-192240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STEP 2: CSBM </a:t>
            </a: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192240" indent="-192240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군사통신망 구축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192240" indent="-192240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군사데이터 합의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192240" indent="-192240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3. CSBM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구축 일정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192240" indent="-192240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검증 방법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시기 합의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192240" indent="-192240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2971800" y="2514600"/>
            <a:ext cx="12193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STEP 3: </a:t>
            </a: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검증 및 사찰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굴림"/>
              <a:buAutoNum type="arabicPeriod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Intrusive /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현지사찰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정례화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사전통보제도 운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3. CSBM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조치 이행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2630520"/>
            <a:ext cx="12193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STEP 4: </a:t>
            </a: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조종 및 </a:t>
            </a: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FB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정치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군사 상황 검토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관련협상과 연계 여부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고위급 회담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재협상 의제 확정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111320" y="2133720"/>
            <a:ext cx="311040" cy="2221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한미 역할 분담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155240"/>
            <a:ext cx="1962000" cy="115596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marL="79200" indent="-79200"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한국의 역할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lnSpc>
                <a:spcPct val="120000"/>
              </a:lnSpc>
              <a:spcBef>
                <a:spcPts val="201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남북군사회담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본 회담 및 실무회담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의제설정 및 일정 확정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운용적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구조적 군비통제 추진 방향 설정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spcBef>
                <a:spcPts val="201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중장기 전력 현대화 평가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spcBef>
                <a:spcPts val="201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국방외교 활성화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lnSpc>
                <a:spcPct val="120000"/>
              </a:lnSpc>
              <a:spcBef>
                <a:spcPts val="201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lnSpc>
                <a:spcPct val="120000"/>
              </a:lnSpc>
              <a:spcBef>
                <a:spcPts val="176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spcBef>
                <a:spcPts val="176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787480" y="1155240"/>
            <a:ext cx="1936800" cy="115596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marL="79200" indent="-79200"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미국의 역할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spcBef>
                <a:spcPts val="201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대북 군사 정찰 확대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spcBef>
                <a:spcPts val="201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대북 조기경보 지표 보완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spcBef>
                <a:spcPts val="201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북한의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WMD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실태 파악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spcBef>
                <a:spcPts val="201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미북 미사일 회담 성과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spcBef>
                <a:spcPts val="201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남북 군비통제 회담 진전 여부에   따른  동북아 군사전략 수정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2400480"/>
            <a:ext cx="4019400" cy="115560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marL="144360" indent="-144360"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한미공동 역할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120000"/>
              </a:lnSpc>
              <a:spcBef>
                <a:spcPts val="201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남북 군비통제의 단계적 성과 후 한미 연합작전에 미치는 영향 정밀 분석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120000"/>
              </a:lnSpc>
              <a:spcBef>
                <a:spcPts val="201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재래식 및 비재래식 전력 재배치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축소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감축 방안 강구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120000"/>
              </a:lnSpc>
              <a:spcBef>
                <a:spcPts val="201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포괄적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WMD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문제 협상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핵 및 생화학 무기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제기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120000"/>
              </a:lnSpc>
              <a:spcBef>
                <a:spcPts val="201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남북한 군비통제 활성화와 주변국들의 대한반도 군사정책 평가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남북 군비통제 환경 변수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3701880" y="1378080"/>
            <a:ext cx="1022400" cy="755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4120" y="1378080"/>
            <a:ext cx="1022400" cy="755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22440" y="2489040"/>
            <a:ext cx="1022040" cy="755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3733920" y="2533680"/>
            <a:ext cx="1022400" cy="755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2000160" y="2000160"/>
            <a:ext cx="1289160" cy="48888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2222640" y="2089080"/>
            <a:ext cx="8078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남북군비통제 진전여부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703800" y="1585800"/>
            <a:ext cx="945000" cy="266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marL="192240" indent="-192240"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북한 의도</a:t>
            </a: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전략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192240" indent="-192240"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700" spc="-1" strike="noStrike">
                <a:solidFill>
                  <a:srgbClr val="000000"/>
                </a:solidFill>
                <a:latin typeface="굴림"/>
              </a:rPr>
              <a:t>평화공세</a:t>
            </a:r>
            <a:r>
              <a:rPr b="1" lang="en-US" sz="7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1600200"/>
            <a:ext cx="7779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 marL="192240" indent="-192240"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한반도 위기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192240" indent="-192240"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굴림"/>
              </a:rPr>
              <a:t>(NK </a:t>
            </a:r>
            <a:r>
              <a:rPr b="1" lang="zh-CN" sz="700" spc="-1" strike="noStrike">
                <a:solidFill>
                  <a:srgbClr val="000000"/>
                </a:solidFill>
                <a:latin typeface="굴림"/>
              </a:rPr>
              <a:t>붕괴</a:t>
            </a:r>
            <a:r>
              <a:rPr b="1" lang="en-US" sz="7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827520" y="2771640"/>
            <a:ext cx="731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marL="192240" indent="-192240"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지역 위기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192240" indent="-192240"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700" spc="-1" strike="noStrike">
                <a:solidFill>
                  <a:srgbClr val="000000"/>
                </a:solidFill>
                <a:latin typeface="굴림"/>
              </a:rPr>
              <a:t>대만</a:t>
            </a:r>
            <a:r>
              <a:rPr b="1" lang="en-US" sz="7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>
            <a:off x="687240" y="2652840"/>
            <a:ext cx="8859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marL="192240" indent="-192240"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한미공조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192240" indent="-192240"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700" spc="-1" strike="noStrike">
                <a:solidFill>
                  <a:srgbClr val="000000"/>
                </a:solidFill>
                <a:latin typeface="굴림"/>
              </a:rPr>
              <a:t>남북군축속도</a:t>
            </a:r>
            <a:r>
              <a:rPr b="1" lang="en-US" sz="7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2101680" y="977760"/>
            <a:ext cx="1022400" cy="755640"/>
          </a:xfrm>
          <a:prstGeom prst="ellipse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048400" y="1182600"/>
            <a:ext cx="11343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marL="192240" indent="-192240"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군사혁신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192240" indent="-192240"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700" spc="-1" strike="noStrike">
                <a:solidFill>
                  <a:srgbClr val="000000"/>
                </a:solidFill>
                <a:latin typeface="굴림"/>
              </a:rPr>
              <a:t>비대칭 무기와 </a:t>
            </a:r>
            <a:r>
              <a:rPr b="1" lang="en-US" sz="700" spc="-1" strike="noStrike">
                <a:solidFill>
                  <a:srgbClr val="000000"/>
                </a:solidFill>
                <a:latin typeface="굴림"/>
              </a:rPr>
              <a:t>RMA)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2743200"/>
            <a:ext cx="1022400" cy="755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2971800"/>
            <a:ext cx="75564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 marL="192240" indent="-192240"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미북 협상</a:t>
            </a: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/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192240" indent="-192240"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주변국 반응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>
            <a:off x="2521080" y="1822320"/>
            <a:ext cx="222120" cy="133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>
            <a:off x="2533680" y="2514600"/>
            <a:ext cx="222120" cy="1778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17231400">
            <a:off x="3533760" y="2511000"/>
            <a:ext cx="222480" cy="1778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 rot="3640800">
            <a:off x="1688760" y="2533680"/>
            <a:ext cx="222480" cy="1778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rot="6406800">
            <a:off x="1577520" y="1888920"/>
            <a:ext cx="222120" cy="1778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rot="15414000">
            <a:off x="3533400" y="1844640"/>
            <a:ext cx="222480" cy="1778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318000">
            <a:off x="933120" y="2222280"/>
            <a:ext cx="133200" cy="222120"/>
          </a:xfrm>
          <a:prstGeom prst="upDownArrow">
            <a:avLst>
              <a:gd name="adj1" fmla="val 50000"/>
              <a:gd name="adj2" fmla="val 3319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 rot="4379400">
            <a:off x="1688760" y="1377720"/>
            <a:ext cx="133560" cy="222480"/>
          </a:xfrm>
          <a:prstGeom prst="upDownArrow">
            <a:avLst>
              <a:gd name="adj1" fmla="val 50000"/>
              <a:gd name="adj2" fmla="val 3316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431600">
            <a:off x="3377880" y="1377360"/>
            <a:ext cx="133560" cy="222480"/>
          </a:xfrm>
          <a:prstGeom prst="upDownArrow">
            <a:avLst>
              <a:gd name="adj1" fmla="val 50000"/>
              <a:gd name="adj2" fmla="val 3316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한국의 군비통제 목적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04880" y="1066680"/>
            <a:ext cx="1962000" cy="24004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marL="144360" indent="-14436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군사적 목적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기습전 예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안정적 군사균형 구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공격용 무기 감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외교적 목적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전방위외교 활성화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다자안보 체제 구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대주변국 예방방위 외교 강화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정치적 목적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남북관계 개선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남북정치회담 활성화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경제적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기술적 목적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방위분담금 감소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군사기술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R&amp;D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단계적 민영화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무기체계의 다변화 구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514600" y="1022400"/>
          <a:ext cx="2222640" cy="240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022400"/>
                    <a:ext cx="2222640" cy="24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남북한 군비통제 추진 모형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17480" y="1022400"/>
            <a:ext cx="1111320" cy="48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한미동맹 </a:t>
            </a: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정책조율</a:t>
            </a: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1447920"/>
            <a:ext cx="1190520" cy="48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남북한 군사회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1117440" y="1778040"/>
            <a:ext cx="1168560" cy="48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미북 군사회담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(WMD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339920" y="2133720"/>
            <a:ext cx="1111320" cy="48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남북 군비통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재래전력</a:t>
            </a: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819520" y="977760"/>
            <a:ext cx="1923840" cy="311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2362320" y="1422360"/>
            <a:ext cx="357120" cy="577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의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2844720" y="1022400"/>
            <a:ext cx="1879560" cy="160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남북한 군사 회담 방식</a:t>
            </a: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의제</a:t>
            </a: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일정 설정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1365120"/>
            <a:ext cx="1923840" cy="311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>
            <a:off x="2819520" y="1735200"/>
            <a:ext cx="1923840" cy="311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819520" y="2127240"/>
            <a:ext cx="1923840" cy="311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2819520" y="2514600"/>
            <a:ext cx="1923840" cy="311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2895480"/>
            <a:ext cx="1508400" cy="311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한미 고위 </a:t>
            </a: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Pol-Mil </a:t>
            </a: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협의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1477800" y="2666880"/>
            <a:ext cx="198720" cy="1778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959200" y="2895480"/>
            <a:ext cx="1689120" cy="311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>
            <a:off x="3162240" y="1428840"/>
            <a:ext cx="1258560" cy="160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기본합의서 군사 긴장 완화 조항 이행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2827440" y="1792440"/>
            <a:ext cx="1904760" cy="160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2. CSBM </a:t>
            </a: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정례화</a:t>
            </a: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군사실무회담 제도화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3078000" y="2205000"/>
            <a:ext cx="1302120" cy="160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휴전선 배치전력 재배치</a:t>
            </a: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, TLE </a:t>
            </a: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협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844720" y="2590920"/>
            <a:ext cx="1679760" cy="160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남북한 재래 군축 협약 체결  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336480" y="2957400"/>
            <a:ext cx="805320" cy="160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남북한</a:t>
            </a: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미국 </a:t>
            </a: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자 회담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rot="5385600">
            <a:off x="2530440" y="2806560"/>
            <a:ext cx="200160" cy="378000"/>
          </a:xfrm>
          <a:prstGeom prst="upDownArrow">
            <a:avLst>
              <a:gd name="adj1" fmla="val 50000"/>
              <a:gd name="adj2" fmla="val 3759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남북한 군비통제 전략 비교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155600"/>
            <a:ext cx="2038320" cy="24004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marL="144360" indent="-144360"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한국 입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1992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년 기본 합의서에 입각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군사훈련 사전 통보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참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DMZ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의 평화적 이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군인사 및 정보 교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검증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사찰 체제 확립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WMD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폐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주한미군 의제 제외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2577960" y="1155600"/>
            <a:ext cx="2146320" cy="24004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marL="144360" indent="-144360"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북한 입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미군 주둔 반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미군과 합동 군사훈련 반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DMZ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의 평화적 이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100,000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명 수준으로 남북한 재래병력 삭감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주한미군의 단계적 철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800280" y="2590920"/>
            <a:ext cx="1644480" cy="48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1190160" y="2743200"/>
            <a:ext cx="756000" cy="175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운영적 군비통제 강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895480" y="2590920"/>
            <a:ext cx="1644840" cy="48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3336480" y="2743200"/>
            <a:ext cx="756000" cy="175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구조적 군비통제 강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남북한 주요 군사 현황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04520" y="1155600"/>
            <a:ext cx="4095720" cy="24004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marL="144360" indent="-144360"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한국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북한의 기습 전쟁 수행 가능성 최소화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예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FEBA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전력 재배치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후방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불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단계적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RMA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화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주한미군 주둔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lnSpc>
                <a:spcPct val="18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북한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1999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년 부터 전방배치 지상병력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5%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증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각종 화력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20%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증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노동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호 실전 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WMD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프로그램 추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0">
              <a:spcBef>
                <a:spcPts val="224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3346560" y="1289160"/>
            <a:ext cx="1333440" cy="622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RMA</a:t>
            </a: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화된 합동전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>
            <a:off x="3390840" y="2178000"/>
            <a:ext cx="1333440" cy="6224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비대칭적 전력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3924360" y="1955880"/>
            <a:ext cx="222120" cy="177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남북한 군비통제</a:t>
            </a: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: CSBM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943440" cy="24004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marL="144360" indent="-144360"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단계</a:t>
            </a: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: Soft CSB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0">
              <a:lnSpc>
                <a:spcPct val="130000"/>
              </a:lnSpc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1) Hotline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설치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운영           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군사 데이터 교환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합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0"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교환 방문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훈련 참관        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4)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합동 군사 세미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0"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5)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무기체계 목록 교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lnSpc>
                <a:spcPct val="17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단계</a:t>
            </a: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: Hard CSB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0"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사단이하 군사 활동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훈련 포함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사전통보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12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개월 전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사단이상   군사 활동 사전통보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24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개월 전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0"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전방배치 전력의 단계적 후방배치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동등한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Percentage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재배치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0"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주요 장비 및 무기의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Tagging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및 합동분류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분리 시스템 합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0"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4)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정찰 횟수 및 지역 규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0"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5)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남북형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Dangerous Military Activities (DMA)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협정 체결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700" spc="-1" strike="noStrike">
                <a:solidFill>
                  <a:srgbClr val="000000"/>
                </a:solidFill>
                <a:latin typeface="굴림"/>
              </a:rPr>
              <a:t>남북 군비통제</a:t>
            </a:r>
            <a:r>
              <a:rPr b="1" lang="en-US" sz="17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zh-CN" sz="1700" spc="-1" strike="noStrike">
                <a:solidFill>
                  <a:srgbClr val="000000"/>
                </a:solidFill>
                <a:latin typeface="굴림"/>
              </a:rPr>
              <a:t>전력감축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04880" y="1155600"/>
            <a:ext cx="3867120" cy="24004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marL="144360" indent="-144360"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단계</a:t>
            </a: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군비축소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0">
              <a:lnSpc>
                <a:spcPct val="130000"/>
              </a:lnSpc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1) TLE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품목 및 규모 확정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폐기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저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0"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단계적 병력 삭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3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군 및 특수부대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0"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검증 및 사찰 체제 확립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강제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현장사찰 의무화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0">
              <a:spcBef>
                <a:spcPts val="224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단계</a:t>
            </a: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포괄적 군비통제 협정 체결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0">
              <a:spcBef>
                <a:spcPts val="224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666720" y="2362320"/>
            <a:ext cx="857160" cy="666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oft CSBM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19520" y="2362320"/>
            <a:ext cx="838080" cy="666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Force Reduction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1733400" y="2362320"/>
            <a:ext cx="857520" cy="666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Hard CSBM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3809880" y="2362320"/>
            <a:ext cx="838440" cy="666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Treaty Regime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1523880" y="2743200"/>
            <a:ext cx="17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3657600" y="2743200"/>
            <a:ext cx="17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2743200"/>
            <a:ext cx="17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888840" y="800280"/>
          <a:ext cx="3556080" cy="266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8840" y="800280"/>
                    <a:ext cx="355608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533520" y="399960"/>
            <a:ext cx="4267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복합전의 유형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북한의 붕괴와 군사적 여파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04880" y="1155600"/>
            <a:ext cx="2038320" cy="24004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marL="144360" indent="-144360"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북한붕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0">
              <a:lnSpc>
                <a:spcPct val="150000"/>
              </a:lnSpc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조기경보 체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0"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인민군의 지휘통제 체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0"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우발적 군사 작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0"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4) WMD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활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0"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5)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국의 제한적 개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0"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6)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인민군 해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0"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7)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주요 무기체계 폐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0"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8)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주요 군사 시설 관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0"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9)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군사산업복합체 관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0"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10)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한국군 편입 여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2489040" y="2133720"/>
            <a:ext cx="755640" cy="533160"/>
          </a:xfrm>
          <a:prstGeom prst="rightArrow">
            <a:avLst>
              <a:gd name="adj1" fmla="val 50000"/>
              <a:gd name="adj2" fmla="val 3543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3390840" y="1143000"/>
            <a:ext cx="97812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북한 붕괴 가능성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3479760" y="1498680"/>
            <a:ext cx="97812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북한의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WMD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관리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및 인민군 해체 작업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3613320" y="1943280"/>
            <a:ext cx="97776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단계적 군비통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보다 위기관리가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최우선 과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3746520" y="2432160"/>
            <a:ext cx="97776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정치적 촉진 변수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(Strategic Drivers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와 남북군사관계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685800" y="711000"/>
            <a:ext cx="3867120" cy="306684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Symbol" charset="2"/>
              <a:buChar char="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전통적인 군사적 위협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0"/>
              </a:lnSpc>
              <a:spcBef>
                <a:spcPts val="201"/>
              </a:spcBef>
              <a:buClr>
                <a:srgbClr val="000000"/>
              </a:buClr>
              <a:buFont typeface="Symbol" charset="2"/>
              <a:buChar char="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한국전쟁과 유사한 전면전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저강도 분쟁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(LIC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비전투 군사작전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(MOOTW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spcBef>
                <a:spcPts val="2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대량살상무기 </a:t>
            </a: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(WMD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0"/>
              </a:lnSpc>
              <a:spcBef>
                <a:spcPts val="2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완성된 핵 탄두와 실전 배치된 탄도 미사일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생화학 무기 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spcBef>
                <a:spcPts val="2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비대칭적 무기체계 확산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0"/>
              </a:lnSpc>
              <a:spcBef>
                <a:spcPts val="2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중장거리 탄도 미사일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(MRBM, LRBM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순항 미사일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(cruise missile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무인 무기체계 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정보전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spcBef>
                <a:spcPts val="2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북한의 붕괴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0"/>
              </a:lnSpc>
              <a:spcBef>
                <a:spcPts val="2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단계적 붕괴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급진적 붕괴와 군부 지휘통제 체제 동시 붕괴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마비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중국의 군사적 개입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난민대란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군사적 충돌 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266760" y="222120"/>
            <a:ext cx="4844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한국의 대비 태세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22120" y="3600360"/>
            <a:ext cx="11113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no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644480" y="3600360"/>
            <a:ext cx="18669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089240" y="3600360"/>
            <a:ext cx="11113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noAutofit/>
          </a:bodyPr>
          <a:p>
            <a:pPr algn="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        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390840" y="711360"/>
            <a:ext cx="1333440" cy="1117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한국군의 대비태세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1905120"/>
            <a:ext cx="889200" cy="399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재래식 전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3390840" y="2216160"/>
            <a:ext cx="889200" cy="399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재래식 위협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3581280" y="2514600"/>
            <a:ext cx="889200" cy="399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대칭적 무기 확산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3790800" y="2793960"/>
            <a:ext cx="889200" cy="399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북한 붕괴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120" y="799920"/>
            <a:ext cx="4032360" cy="271116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Autofit/>
          </a:bodyPr>
          <a:p>
            <a:pPr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•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미국 랜드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(RAND)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연구소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1999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년 전략보고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대만의 독립선포 및 중국의 군사공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–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인도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·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파키스탄 핵 전쟁 발발 가능성 및 전례 없는 대난민 사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–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북한의 대량살상무기 전력화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(WMD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의 실전 배치 및 사용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–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인도네시아의 정치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·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경제 위기고조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분리독립운동 가속화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–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미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·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중간 군사경쟁 가속화 및 제한적 군사적 충돌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–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북한의 정치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·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경제 상황 악화와 붕괴 시나리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–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중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·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일간 경제적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·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군사적 마찰 가속화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–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이라크의 사우디 침공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–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동유럽 및 아프리카에서 극렬 민족분규 확산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루안다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코소보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355680" y="266760"/>
            <a:ext cx="45781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가상적 군사안보위협</a:t>
            </a: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: 2001-2020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4044960" y="3600360"/>
            <a:ext cx="11113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noAutofit/>
          </a:bodyPr>
          <a:p>
            <a:pPr algn="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     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644480" y="3600360"/>
            <a:ext cx="18669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222120" y="3600360"/>
            <a:ext cx="11113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no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11040" y="977400"/>
            <a:ext cx="4711680" cy="248940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Autofit/>
          </a:bodyPr>
          <a:p>
            <a:pPr>
              <a:spcBef>
                <a:spcPts val="176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•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거대중국과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(Greater China)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지역패권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•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중국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당 독제 체제 붕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•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북한 핵 무기 개발 확인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•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북한의 단계적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급진적 붕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2" marL="384120">
              <a:lnSpc>
                <a:spcPct val="130000"/>
              </a:lnSpc>
              <a:spcBef>
                <a:spcPts val="224"/>
              </a:spcBef>
              <a:tabLst>
                <a:tab algn="l" pos="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•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한반도 위기시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북한 붕괴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)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중국 개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2" marL="384120">
              <a:lnSpc>
                <a:spcPct val="130000"/>
              </a:lnSpc>
              <a:spcBef>
                <a:spcPts val="224"/>
              </a:spcBef>
              <a:tabLst>
                <a:tab algn="l" pos="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•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러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·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중 제휴와 한</a:t>
            </a:r>
            <a:r>
              <a:rPr b="0" lang="ko-KR" sz="5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500" spc="-1" strike="noStrike">
                <a:solidFill>
                  <a:srgbClr val="000000"/>
                </a:solidFill>
                <a:latin typeface="굴림"/>
                <a:ea typeface="굴림"/>
              </a:rPr>
              <a:t>·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미</a:t>
            </a:r>
            <a:r>
              <a:rPr b="0" lang="ko-KR" sz="5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500" spc="-1" strike="noStrike">
                <a:solidFill>
                  <a:srgbClr val="000000"/>
                </a:solidFill>
                <a:latin typeface="굴림"/>
                <a:ea typeface="굴림"/>
              </a:rPr>
              <a:t>·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일 외교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·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안보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·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경제  갈등 심화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2" marL="384120">
              <a:lnSpc>
                <a:spcPct val="130000"/>
              </a:lnSpc>
              <a:spcBef>
                <a:spcPts val="224"/>
              </a:spcBef>
              <a:tabLst>
                <a:tab algn="l" pos="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•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일본의 핵 무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2" marL="384120">
              <a:lnSpc>
                <a:spcPct val="130000"/>
              </a:lnSpc>
              <a:spcBef>
                <a:spcPts val="224"/>
              </a:spcBef>
              <a:tabLst>
                <a:tab algn="l" pos="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•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통일 한반도 핵 무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2" marL="384120">
              <a:lnSpc>
                <a:spcPct val="130000"/>
              </a:lnSpc>
              <a:spcBef>
                <a:spcPts val="224"/>
              </a:spcBef>
              <a:tabLst>
                <a:tab algn="l" pos="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•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비대칭적 무기 확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2" marL="384120">
              <a:lnSpc>
                <a:spcPct val="130000"/>
              </a:lnSpc>
              <a:spcBef>
                <a:spcPts val="224"/>
              </a:spcBef>
              <a:tabLst>
                <a:tab algn="l" pos="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•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내치악화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중국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미얀마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인도네시아 등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355680"/>
            <a:ext cx="47563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동북아 </a:t>
            </a: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2001-2020: </a:t>
            </a: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가상적 위협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222120" y="3600360"/>
            <a:ext cx="11113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no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1644480" y="3600360"/>
            <a:ext cx="18669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000680" y="3645000"/>
            <a:ext cx="11109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noAutofit/>
          </a:bodyPr>
          <a:p>
            <a:pPr algn="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        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2819520" y="2590920"/>
            <a:ext cx="1778040" cy="311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325680" y="2662200"/>
            <a:ext cx="765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중국의 향방이 핵심 요소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9.11</a:t>
            </a: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테러 공격의 전략적 함의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04880" y="1155600"/>
            <a:ext cx="3943440" cy="24004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marL="144360" indent="-144360"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테러 공격강도의 단계적 증대 추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spcBef>
                <a:spcPts val="176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굴림"/>
              </a:rPr>
              <a:t>1980</a:t>
            </a:r>
            <a:r>
              <a:rPr b="0" lang="zh-CN" sz="700" spc="-1" strike="noStrike">
                <a:solidFill>
                  <a:srgbClr val="000000"/>
                </a:solidFill>
                <a:latin typeface="굴림"/>
              </a:rPr>
              <a:t>년대 미군부대 공격</a:t>
            </a:r>
            <a:r>
              <a:rPr b="0" lang="en-US" sz="7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700" spc="-1" strike="noStrike">
                <a:solidFill>
                  <a:srgbClr val="000000"/>
                </a:solidFill>
                <a:latin typeface="굴림"/>
              </a:rPr>
              <a:t>민간항공기 폭파</a:t>
            </a:r>
            <a:r>
              <a:rPr b="0" lang="en-US" sz="7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700" spc="-1" strike="noStrike">
                <a:solidFill>
                  <a:srgbClr val="000000"/>
                </a:solidFill>
                <a:latin typeface="굴림"/>
              </a:rPr>
              <a:t>대사관 폭파 등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lnSpc>
                <a:spcPct val="12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대상은 미국이지만 준비과정은 전지구적 테러네트워크 활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spcBef>
                <a:spcPts val="176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굴림"/>
              </a:rPr>
              <a:t>3-4</a:t>
            </a:r>
            <a:r>
              <a:rPr b="0" lang="zh-CN" sz="700" spc="-1" strike="noStrike">
                <a:solidFill>
                  <a:srgbClr val="000000"/>
                </a:solidFill>
                <a:latin typeface="굴림"/>
              </a:rPr>
              <a:t>년 치밀한 사전 준비 </a:t>
            </a:r>
            <a:r>
              <a:rPr b="0" lang="en-US" sz="7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700" spc="-1" strike="noStrike">
                <a:solidFill>
                  <a:srgbClr val="000000"/>
                </a:solidFill>
                <a:latin typeface="굴림"/>
              </a:rPr>
              <a:t>자금</a:t>
            </a:r>
            <a:r>
              <a:rPr b="0" lang="en-US" sz="7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700" spc="-1" strike="noStrike">
                <a:solidFill>
                  <a:srgbClr val="000000"/>
                </a:solidFill>
                <a:latin typeface="굴림"/>
              </a:rPr>
              <a:t>인력</a:t>
            </a:r>
            <a:r>
              <a:rPr b="0" lang="en-US" sz="7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700" spc="-1" strike="noStrike">
                <a:solidFill>
                  <a:srgbClr val="000000"/>
                </a:solidFill>
                <a:latin typeface="굴림"/>
              </a:rPr>
              <a:t>그리고 정보의 전략화</a:t>
            </a:r>
            <a:r>
              <a:rPr b="0" lang="en-US" sz="7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lnSpc>
                <a:spcPct val="12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첨단 무기가 아닌 재래식 무기 사용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14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민간 항공기의 탄도 미사일화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lnSpc>
                <a:spcPct val="12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생화학 테러의 본격적인 대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lnSpc>
                <a:spcPct val="12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핵 테러 불가피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144360" indent="0">
              <a:spcBef>
                <a:spcPts val="224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144360" indent="0">
              <a:spcBef>
                <a:spcPts val="224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144360" indent="0">
              <a:spcBef>
                <a:spcPts val="224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666880"/>
            <a:ext cx="1422360" cy="444600"/>
          </a:xfrm>
          <a:custGeom>
            <a:avLst/>
            <a:gdLst>
              <a:gd name="textAreaLeft" fmla="*/ 222120 w 1422360"/>
              <a:gd name="textAreaRight" fmla="*/ 1244880 w 1422360"/>
              <a:gd name="textAreaTop" fmla="*/ 111240 h 444600"/>
              <a:gd name="textAreaBottom" fmla="*/ 333720 h 444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2209680"/>
            <a:ext cx="2044440" cy="5778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다차원적 테러 시대 대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603520" y="2819520"/>
            <a:ext cx="2044800" cy="5778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전통적인 안보위협 현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동북아 재래전력 지표</a:t>
            </a:r>
            <a:r>
              <a:rPr b="0" lang="en-US" sz="19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58800" y="1096920"/>
          <a:ext cx="4010040" cy="254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1096920"/>
                    <a:ext cx="4010040" cy="25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3962520" y="2679840"/>
            <a:ext cx="666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4097880" y="2749680"/>
            <a:ext cx="338040" cy="2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굴림"/>
              </a:rPr>
              <a:t>병력 단위</a:t>
            </a: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1000 </a:t>
            </a:r>
            <a:r>
              <a:rPr b="0" lang="zh-CN" sz="6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새로운 힘의 투사능력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200" y="1155600"/>
            <a:ext cx="4095720" cy="24004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marL="144360" indent="-14436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중국과 일본은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1990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년대 이후 힘의 투사 능력 향상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12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인민 해방군 공군의 주력기 교체 및 현대화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12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일본 자위대 항공 군사작전 영역 확대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(AWACS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러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·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중관계 정상화를 계기로 중국의 기술집약적 전력구조 예상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11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남지나해와 서해를 중심으로 한 중국의 군사력 과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12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새로운 전략적 완충지대 설정이 주요 목적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144360" indent="0">
              <a:spcBef>
                <a:spcPts val="249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전면 지상전 가능성 감소와 전력구조 개편 불가피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12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역내 주요국들의 전력구조는 병력중심 전략에서 탈피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12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해양 및 영공안보 중요성 확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12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비대칭적 무기확산에 대비하기 위한 “공격적 억지력” 보강 추세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1T02:48:27Z</dcterms:created>
  <dc:creator>Chung Min Lee</dc:creator>
  <dc:description/>
  <dc:language>en-US</dc:language>
  <cp:lastModifiedBy>현용해</cp:lastModifiedBy>
  <dcterms:modified xsi:type="dcterms:W3CDTF">2002-01-11T02:43:05Z</dcterms:modified>
  <cp:revision>93</cp:revision>
  <dc:subject/>
  <dc:title>한반도 군비통제: 쟁점과 전망</dc:title>
</cp:coreProperties>
</file>